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4.jpeg" ContentType="image/jpeg"/>
  <Override PartName="/ppt/media/AlisonKrauss_InThePalmOfYourHand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462-992A-4ED8-AE70-84DE4A56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9EF-7258-4084-B27F-98827EFF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0D5-9272-4E4B-96D0-F13DB741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9E6-62D8-4C9C-97C5-D0787D39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BD7-1168-48C0-BF83-35896258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DFD-F1B4-43AE-B736-3B29C78D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A74-D543-484C-8190-0BCB3B57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7EA-6922-4789-965E-CD83E5C8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02C-A8FB-4C52-9F2C-BA45D80C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47A-C7C3-4FC4-8CF1-4793E01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AB0-A402-4456-A528-5035FEC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696-44A2-475F-99FA-3FE82A4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1349-8160-43CF-8CDB-A5D0F5B5FDA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isonKrauss_InThePalmOfYourHand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3480" y="223920"/>
            <a:ext cx="9177480" cy="6408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lisonKrauss_InThePalmOfYourHa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69720"/>
            <a:ext cx="9177480" cy="6116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77480" cy="602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69720"/>
            <a:ext cx="9177480" cy="611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77480" cy="614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9177480" cy="602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72880"/>
            <a:ext cx="9177480" cy="631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7640" y="309600"/>
            <a:ext cx="9177480" cy="623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31920"/>
            <a:ext cx="9177480" cy="626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257040"/>
            <a:ext cx="9177480" cy="634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77480" cy="619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6680"/>
            <a:ext cx="9177480" cy="65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69720"/>
            <a:ext cx="9177480" cy="611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65120"/>
            <a:ext cx="9177480" cy="592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3480" y="476280"/>
            <a:ext cx="9177480" cy="590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09600"/>
            <a:ext cx="9177480" cy="623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3480" y="404640"/>
            <a:ext cx="9177480" cy="576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9177480" cy="6215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77480" cy="609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77480" cy="619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17640" y="476280"/>
            <a:ext cx="9177480" cy="604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3480" y="512640"/>
            <a:ext cx="917748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7640" y="93600"/>
            <a:ext cx="9177480" cy="666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7640" y="297000"/>
            <a:ext cx="9177480" cy="62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77480" cy="583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77480" cy="602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77480" cy="597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33480" y="476280"/>
            <a:ext cx="9177480" cy="604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33480" y="368280"/>
            <a:ext cx="9177480" cy="612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441360"/>
            <a:ext cx="9177480" cy="597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369720"/>
            <a:ext cx="9177480" cy="611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33480" y="331920"/>
            <a:ext cx="9177480" cy="619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7640" y="201600"/>
            <a:ext cx="9177480" cy="645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3480" y="260280"/>
            <a:ext cx="9177480" cy="626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3480" y="512640"/>
            <a:ext cx="917748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3480" y="379440"/>
            <a:ext cx="9177480" cy="609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3480" y="331920"/>
            <a:ext cx="9177480" cy="619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69720"/>
            <a:ext cx="9177480" cy="6118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5:34:27Z</dcterms:created>
  <dc:creator/>
  <dc:description/>
  <dc:language>en-US</dc:language>
  <cp:lastModifiedBy>../</cp:lastModifiedBy>
  <dcterms:modified xsi:type="dcterms:W3CDTF">2010-04-28T19:17:11Z</dcterms:modified>
  <cp:revision>3</cp:revision>
  <dc:subject/>
  <dc:title>Diapositive 1</dc:title>
</cp:coreProperties>
</file>